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D5F0-AAAF-48B4-A6AF-B6BF6238D4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F481-A2CE-40F2-9D6A-2417392306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890-E0E6-4453-BD7A-19E1CEEE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F39-AD90-4DF3-941D-B8E2C480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F4F-6422-4E1E-B2D2-EEE0D5E5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6C8-8769-4E08-A085-E7A66D06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108-3FE6-412F-8E9E-AFF4923A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327-A997-4C9B-919A-5130BB47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753-0F4E-4BBF-9BBF-385ACF0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98D-68E7-4429-BD19-82DCDCEF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13C-2B19-49FC-9B20-46073C5B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D96-2A6C-4C6B-89D5-E8C68C2B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49B-4509-48E0-A9BB-A8FA2435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268-7564-419B-9278-2ADC2642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8908-9130-486A-969C-BB9A1E92569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33" descr=""/>
          <p:cNvPicPr/>
          <p:nvPr/>
        </p:nvPicPr>
        <p:blipFill>
          <a:blip r:embed="rId1"/>
          <a:stretch/>
        </p:blipFill>
        <p:spPr>
          <a:xfrm>
            <a:off x="34920" y="0"/>
            <a:ext cx="4848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3280" y="893880"/>
          <a:ext cx="4368960" cy="4029120"/>
        </p:xfrm>
        <a:graphic>
          <a:graphicData uri="http://schemas.openxmlformats.org/drawingml/2006/table">
            <a:tbl>
              <a:tblPr/>
              <a:tblGrid>
                <a:gridCol w="2184480"/>
                <a:gridCol w="2184480"/>
              </a:tblGrid>
              <a:tr h="36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유의사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양수시 신청업체정보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청업체작성은 양수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 작성하는 것이 아닌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업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에서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통장기재내역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체양도양수 또는 합병 등으로 통장기재내역이 변경 시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3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세금계산서 수신이메일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양수 및 대표자변경으로 인하여 세금계산서 수신이메일이 변경될 경우 필수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9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인정보 수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용 동의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가 변경되는 경우에는 필수 작성 및 동의란 체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 서명 필수 기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명과 하단 서명은 일치해야 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가 변경되지 않는 경우에는 필수 입력사항이 아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연락처로 계약 변경내용 및 기타안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MS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 발송되므로 담당자정보 최신화 유지를 위한 지속적인 업데이트 필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2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인신용정보 조회 동의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표자변경 또는 양도양수 시 변경될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표자가 작성 및 사인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경될 대표자 직접 서명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TextBox 5"/>
          <p:cNvSpPr/>
          <p:nvPr/>
        </p:nvSpPr>
        <p:spPr>
          <a:xfrm>
            <a:off x="4643280" y="4665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작성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직사각형 6"/>
          <p:cNvSpPr/>
          <p:nvPr/>
        </p:nvSpPr>
        <p:spPr>
          <a:xfrm>
            <a:off x="395280" y="4149720"/>
            <a:ext cx="4105440" cy="11764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08000" y="4067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직사각형 8"/>
          <p:cNvSpPr/>
          <p:nvPr/>
        </p:nvSpPr>
        <p:spPr>
          <a:xfrm>
            <a:off x="395280" y="3933720"/>
            <a:ext cx="4105440" cy="1429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08000" y="36846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10"/>
          <p:cNvSpPr/>
          <p:nvPr/>
        </p:nvSpPr>
        <p:spPr>
          <a:xfrm>
            <a:off x="395280" y="2781360"/>
            <a:ext cx="4105440" cy="216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8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12"/>
          <p:cNvSpPr/>
          <p:nvPr/>
        </p:nvSpPr>
        <p:spPr>
          <a:xfrm>
            <a:off x="395280" y="981000"/>
            <a:ext cx="4105440" cy="5032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108000" y="76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14"/>
          <p:cNvSpPr/>
          <p:nvPr/>
        </p:nvSpPr>
        <p:spPr>
          <a:xfrm>
            <a:off x="395280" y="5661000"/>
            <a:ext cx="4105440" cy="576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08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" name="그룹 22"/>
          <p:cNvGrpSpPr/>
          <p:nvPr/>
        </p:nvGrpSpPr>
        <p:grpSpPr>
          <a:xfrm>
            <a:off x="3851280" y="4941360"/>
            <a:ext cx="149400" cy="143280"/>
            <a:chOff x="3851280" y="4941360"/>
            <a:chExt cx="149400" cy="143280"/>
          </a:xfrm>
        </p:grpSpPr>
        <p:sp>
          <p:nvSpPr>
            <p:cNvPr id="62" name="직선 연결선 17"/>
            <p:cNvSpPr/>
            <p:nvPr/>
          </p:nvSpPr>
          <p:spPr>
            <a:xfrm>
              <a:off x="3851280" y="5013000"/>
              <a:ext cx="73080" cy="7164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직선 연결선 18"/>
            <p:cNvSpPr/>
            <p:nvPr/>
          </p:nvSpPr>
          <p:spPr>
            <a:xfrm flipV="1">
              <a:off x="3924360" y="4941360"/>
              <a:ext cx="76320" cy="1429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4" name="그룹 23"/>
          <p:cNvGrpSpPr/>
          <p:nvPr/>
        </p:nvGrpSpPr>
        <p:grpSpPr>
          <a:xfrm>
            <a:off x="1835280" y="4941360"/>
            <a:ext cx="149040" cy="143280"/>
            <a:chOff x="1835280" y="4941360"/>
            <a:chExt cx="149040" cy="143280"/>
          </a:xfrm>
        </p:grpSpPr>
        <p:sp>
          <p:nvSpPr>
            <p:cNvPr id="65" name="직선 연결선 24"/>
            <p:cNvSpPr/>
            <p:nvPr/>
          </p:nvSpPr>
          <p:spPr>
            <a:xfrm>
              <a:off x="1835280" y="5013000"/>
              <a:ext cx="73080" cy="7164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직선 연결선 25"/>
            <p:cNvSpPr/>
            <p:nvPr/>
          </p:nvSpPr>
          <p:spPr>
            <a:xfrm flipV="1">
              <a:off x="1908360" y="4941360"/>
              <a:ext cx="75960" cy="1429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3276720" y="50846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0" lang="ko-KR" sz="9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홍길동</a:t>
            </a: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     </a:t>
            </a:r>
            <a:r>
              <a:rPr b="1" lang="ko-KR" sz="900" spc="-1" strike="noStrike">
                <a:solidFill>
                  <a:srgbClr val="c00000"/>
                </a:solidFill>
                <a:latin typeface="나눔손글씨 붓"/>
                <a:ea typeface="나눔손글씨 붓"/>
              </a:rPr>
              <a:t>길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3330720" y="5899320"/>
            <a:ext cx="122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1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춘향</a:t>
            </a: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    </a:t>
            </a:r>
            <a:r>
              <a:rPr b="1" lang="ko-KR" sz="700" spc="-1" strike="noStrike">
                <a:solidFill>
                  <a:srgbClr val="c00000"/>
                </a:solidFill>
                <a:latin typeface="궁서"/>
                <a:ea typeface="궁서"/>
              </a:rPr>
              <a:t>춘향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타원 28"/>
          <p:cNvSpPr/>
          <p:nvPr/>
        </p:nvSpPr>
        <p:spPr>
          <a:xfrm>
            <a:off x="4197240" y="5854680"/>
            <a:ext cx="287280" cy="351000"/>
          </a:xfrm>
          <a:prstGeom prst="ellipse">
            <a:avLst/>
          </a:prstGeom>
          <a:noFill/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29"/>
          <p:cNvSpPr/>
          <p:nvPr/>
        </p:nvSpPr>
        <p:spPr>
          <a:xfrm>
            <a:off x="1042920" y="430848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3203640" y="430848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010-1234-5678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1890720" y="51116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2         9       24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1879560" y="59738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2         9       24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1525680" y="354636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3476520" y="125892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3170160" y="3519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1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춘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23:33:33Z</dcterms:created>
  <dc:creator>이정우</dc:creator>
  <dc:description/>
  <dc:language>en-US</dc:language>
  <cp:lastModifiedBy>jaba@naver.com</cp:lastModifiedBy>
  <cp:lastPrinted>2012-09-24T01:17:40Z</cp:lastPrinted>
  <dcterms:modified xsi:type="dcterms:W3CDTF">2019-02-12T02:45:55Z</dcterms:modified>
  <cp:revision>11</cp:revision>
  <dc:subject/>
  <dc:title>PowerPoint 프레젠테이션</dc:title>
</cp:coreProperties>
</file>